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AEFF41-283C-4845-BA53-6D9E7B0413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3B79AD-7914-4E04-86EB-378B40EEB7A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a, Cole, A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DF66CD-63F3-4792-AAF3-6274D65D19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885120-7527-4A71-910F-6D626BAB18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0169D1-EDCA-4CF5-A1C3-548F5A1038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7408BE-DFA9-4628-ABAC-A131677928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a, Sha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0F7E0C-CFE4-4A6C-B08F-2C1F28C6C7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166FBB-05FE-456C-ACF4-4BC6F6FDAE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842DF9-24D2-4BA1-A2C8-A9051825C9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ky, Sha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C1BEA0-D213-4D47-B928-40E7ECCE10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ky, Sha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B595BF-24C8-4EEA-9A42-46B965021F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EDCF33-5632-4D60-AF94-01861B0DF4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853BC6-60C2-4B40-ADB3-7080BA92B4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1EE3-83DB-4949-A0D3-81950F97B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EB39-20C9-43AB-A1AD-B81E3B37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4E2E-F5EE-49BD-8D9D-A42B97C64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A35B-4364-441E-BF25-F1B2EB701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47E6-4171-419F-96D5-9C478821B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A172-CA16-425F-B62B-96B13273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E6BD-DD6B-4D8D-B5AA-7F117D37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DB6C-C498-4094-BB63-C97B74B7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6FBF-04C7-42FF-BC9E-91E89DD0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FEE2-7D09-4447-8BE5-238B3336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C253-FC1D-44DE-BEDC-C350C1A7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056B-C452-41E3-8375-37F2752E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42BC-AD2B-41E2-BA86-A80D8234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42E2-0B7F-4C24-86F7-5013455E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0D91-D948-4562-9392-FCC7BBD2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787A-D1F4-4487-AF82-9B5669C53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02E2-BF19-44AC-AB98-320FFCB77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6A3D5-9485-4E65-8951-274A05CF2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89067-A357-4A37-AFD1-9E665422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BE199-D5B4-4E1A-A847-99AEF9C6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E6BC7-5CE2-4785-8639-518659A8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38909-3B4D-4135-AF4D-32EBC675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FB3F-D917-47C0-BA03-22E0AEB5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88B56-BD44-417C-BC97-1816363C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4B75C-56B2-4FD3-880C-DD7BA59C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CD819-ECFC-41BD-A994-7E4131BB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C187A-81EC-433E-ACB7-DBF99523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EE5C7-252C-4694-8D2D-3F2853B2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85FE4-21FD-44A4-B1B5-7B94ED03E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07CBA-004F-4EA1-A77D-17DF2E790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DF3D-1F83-4C43-8D89-19DCD7B1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B12C-10A6-4F09-B7AC-CD994860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3A2A-DD72-4712-A347-BDCCF85B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391C-A66D-434E-A25E-64CDDFC7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BCDE-E523-4350-900A-CA2CCCFE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9364-AAE7-461B-99A2-7ED26E08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F74250-5027-4FC9-82F6-FE062806838D}" type="slidenum">
              <a:rPr b="1" lang="en-US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AC96E9-BCC4-4B85-9103-D01AFD458BCB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489FE7-4D20-455E-9FAF-67F9BF8E8DCD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lincolnwtl.wikispaces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rezi.com/xlasfrzrhvd0/cambodian-cuisine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2000"/>
            <a:ext cx="777240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4030200"/>
            <a:ext cx="68580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282e"/>
                </a:solidFill>
                <a:latin typeface="Arial Black"/>
              </a:rPr>
              <a:t>WRITE TO LEAR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282e"/>
                </a:solidFill>
                <a:latin typeface="Arial Black"/>
              </a:rPr>
              <a:t>FEB. 29, 2012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http://www.myteacherpages.com/webpages/klauridsen/photos/logo/Maroon-White-Lincoln.jpg"/>
          <p:cNvPicPr/>
          <p:nvPr/>
        </p:nvPicPr>
        <p:blipFill>
          <a:blip r:embed="rId1"/>
          <a:stretch/>
        </p:blipFill>
        <p:spPr>
          <a:xfrm>
            <a:off x="2340000" y="1147680"/>
            <a:ext cx="28573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804960"/>
            <a:ext cx="5791320" cy="94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1282e"/>
                </a:solidFill>
                <a:latin typeface="Arial Black"/>
              </a:rPr>
              <a:t>3 GROUPS OF STRATEGIES</a:t>
            </a:r>
            <a:endParaRPr b="0" lang="en-US" sz="5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85760" y="1752120"/>
            <a:ext cx="8686800" cy="46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Go to the location you chose </a:t>
            </a:r>
            <a:r>
              <a:rPr b="1" lang="en-US" sz="3700" spc="-1" strike="noStrike" u="sng">
                <a:solidFill>
                  <a:srgbClr val="000000"/>
                </a:solidFill>
                <a:uFillTx/>
                <a:latin typeface="Arial"/>
              </a:rPr>
              <a:t>last time 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for the small group strategy session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24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d1282e"/>
                </a:solidFill>
                <a:latin typeface="Arial"/>
              </a:rPr>
              <a:t>Commons: 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admit/exit, MVP, double entry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24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d1282e"/>
                </a:solidFill>
                <a:latin typeface="Arial"/>
              </a:rPr>
              <a:t>Choir Room: 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frames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24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d1282e"/>
                </a:solidFill>
                <a:latin typeface="Arial"/>
              </a:rPr>
              <a:t>Band Room: 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quick write, 12 word summary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1282e"/>
                </a:solidFill>
                <a:latin typeface="Arial Black"/>
              </a:rPr>
              <a:t>NEW WTL STRATEGIES</a:t>
            </a:r>
            <a:endParaRPr b="0" lang="en-US" sz="5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1947960"/>
            <a:ext cx="7620120" cy="41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11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ecific genre fram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1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s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1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loom’s Sentence Starte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9581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282e"/>
                </a:solidFill>
                <a:latin typeface="Arial Black"/>
              </a:rPr>
              <a:t>COLLABORATION TIME</a:t>
            </a:r>
            <a:endParaRPr b="0" lang="en-US" sz="4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23520"/>
            <a:ext cx="833112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hare your exampl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velop a writing frame or lis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deas from other teachers can you try in your classe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y common formative assessments for data team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8408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282e"/>
                </a:solidFill>
                <a:latin typeface="Arial Black"/>
              </a:rPr>
              <a:t>COLLABORATION TIME</a:t>
            </a:r>
            <a:endParaRPr b="0" lang="en-US" sz="4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472760"/>
            <a:ext cx="843264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glis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ienc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h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eign Lang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cial Stud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sines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dustrial Tech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247240" cy="61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 Black"/>
              </a:rPr>
              <a:t>-SHARE EXAMPLES</a:t>
            </a:r>
            <a:br>
              <a:rPr sz="4300"/>
            </a:b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Arial Black"/>
              </a:rPr>
              <a:t>-DEVELOP FRAME OR LIST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-USE AS COMMON FORMATIVE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SSESSMENT?</a:t>
            </a:r>
            <a:br>
              <a:rPr sz="3200"/>
            </a:b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Arial Black"/>
              </a:rPr>
              <a:t>-PLACE EXAMPLES IN FOLDER</a:t>
            </a:r>
            <a:endParaRPr b="0" lang="en-US" sz="43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1961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1282e"/>
                </a:solidFill>
                <a:latin typeface="Arial Black"/>
              </a:rPr>
              <a:t>WRAP UP</a:t>
            </a:r>
            <a:endParaRPr b="0" lang="en-US" sz="5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389240"/>
            <a:ext cx="833112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ncoln High School WTL Wiki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LincolnWTL –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xt time bring more exampl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s for the parking lot about WTL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282e"/>
                </a:solidFill>
                <a:latin typeface="Arial Black"/>
              </a:rPr>
              <a:t>OBJECTIVES</a:t>
            </a:r>
            <a:endParaRPr b="0" lang="en-US" sz="4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752120"/>
            <a:ext cx="82980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Provide teachers with more Write to Learn strategies to implement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Share Write to Learn examples and collaborate for further implement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1282e"/>
                </a:solidFill>
                <a:latin typeface="Arial Black"/>
              </a:rPr>
              <a:t>GOAL…</a:t>
            </a:r>
            <a:endParaRPr b="0" lang="en-US" sz="4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ongterm goal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 Writing in every classroom, every 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mmediate goal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 Get students writ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0320" y="2946240"/>
            <a:ext cx="82803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1282e"/>
                </a:solidFill>
                <a:latin typeface="Arial Black"/>
              </a:rPr>
              <a:t>FREQUENTLY ASKED QUESTIONS ABOUT WTL</a:t>
            </a:r>
            <a:endParaRPr b="0" lang="en-US" sz="54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6840" y="0"/>
            <a:ext cx="8211960" cy="66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182520">
              <a:spcBef>
                <a:spcPts val="7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teachers motivate students to wri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7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eachers have to grade the writ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7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time will implementing writing strategies ta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7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often do teachers have to use writing strategies in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7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TL strategies can aid the writing teachers already do in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WRITING IN FC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prezi.com/xlasfrzrhvd0/cambodian-cuisine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6840" y="0"/>
            <a:ext cx="8211960" cy="66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182520">
              <a:spcBef>
                <a:spcPts val="7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teachers motivate students to wri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7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eachers have to grade the writ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7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time will implementing writing strategies ta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7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often do teachers have to use writing strategies in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7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TL strategies can aid the writing teachers already do in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7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writing expectations should teachers have with these strateg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1282e"/>
                </a:solidFill>
                <a:latin typeface="Arial Black"/>
              </a:rPr>
              <a:t>ADMIT SLIP </a:t>
            </a:r>
            <a:br>
              <a:rPr sz="4300"/>
            </a:br>
            <a:r>
              <a:rPr b="0" lang="en-US" sz="4300" spc="-1" strike="noStrike">
                <a:solidFill>
                  <a:srgbClr val="d1282e"/>
                </a:solidFill>
                <a:latin typeface="Arial Black"/>
              </a:rPr>
              <a:t>(POST IT NOTES)</a:t>
            </a:r>
            <a:endParaRPr b="0" lang="en-US" sz="43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1752480"/>
            <a:ext cx="8381880" cy="49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 your table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bine your ideas for other possible answers or what you do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w questions you have about WT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84240" y="210960"/>
          <a:ext cx="9009000" cy="6567840"/>
        </p:xfrm>
        <a:graphic>
          <a:graphicData uri="http://schemas.openxmlformats.org/drawingml/2006/table">
            <a:tbl>
              <a:tblPr/>
              <a:tblGrid>
                <a:gridCol w="3002040"/>
                <a:gridCol w="3003480"/>
                <a:gridCol w="3003480"/>
              </a:tblGrid>
              <a:tr h="814680">
                <a:tc>
                  <a:txBody>
                    <a:bodyPr lIns="83160" rIns="83160" tIns="41400" bIns="414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ag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3160" marR="83160">
                    <a:lnL w="5760">
                      <a:solidFill>
                        <a:srgbClr val="7a7a7a"/>
                      </a:solidFill>
                    </a:lnL>
                    <a:lnR w="5760">
                      <a:solidFill>
                        <a:srgbClr val="7a7a7a"/>
                      </a:solidFill>
                    </a:lnR>
                    <a:lnT w="5760">
                      <a:solidFill>
                        <a:srgbClr val="7a7a7a"/>
                      </a:solidFill>
                    </a:lnT>
                    <a:lnB w="5760">
                      <a:solidFill>
                        <a:srgbClr val="7a7a7a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83160" rIns="83160" tIns="41400" bIns="414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3160" marR="83160">
                    <a:lnL w="5760">
                      <a:solidFill>
                        <a:srgbClr val="7a7a7a"/>
                      </a:solidFill>
                    </a:lnL>
                    <a:lnR w="5760">
                      <a:solidFill>
                        <a:srgbClr val="7a7a7a"/>
                      </a:solidFill>
                    </a:lnR>
                    <a:lnT w="5760">
                      <a:solidFill>
                        <a:srgbClr val="7a7a7a"/>
                      </a:solidFill>
                    </a:lnT>
                    <a:lnB w="5760">
                      <a:solidFill>
                        <a:srgbClr val="7a7a7a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83160" rIns="83160" tIns="41400" bIns="414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onstrating Understand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3160" marR="83160">
                    <a:lnL w="5760">
                      <a:solidFill>
                        <a:srgbClr val="7a7a7a"/>
                      </a:solidFill>
                    </a:lnL>
                    <a:lnR w="5760">
                      <a:solidFill>
                        <a:srgbClr val="7a7a7a"/>
                      </a:solidFill>
                    </a:lnR>
                    <a:lnT w="5760">
                      <a:solidFill>
                        <a:srgbClr val="7a7a7a"/>
                      </a:solidFill>
                    </a:lnT>
                    <a:lnB w="5760">
                      <a:solidFill>
                        <a:srgbClr val="7a7a7a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5753160">
                <a:tc>
                  <a:txBody>
                    <a:bodyPr lIns="83160" rIns="8316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: provide all students with a nonthreatening opportunity to respon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 engaged in wri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graded, not related to cont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7a7a7a"/>
                      </a:solidFill>
                    </a:lnL>
                    <a:lnR w="5760">
                      <a:solidFill>
                        <a:srgbClr val="7a7a7a"/>
                      </a:solidFill>
                    </a:lnR>
                    <a:lnT w="5760">
                      <a:solidFill>
                        <a:srgbClr val="7a7a7a"/>
                      </a:solidFill>
                    </a:lnT>
                    <a:lnB w="5760">
                      <a:solidFill>
                        <a:srgbClr val="7a7a7a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: help students show their thinking through writ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 process the cont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ve writing a plus, check, minus to guide 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7a7a7a"/>
                      </a:solidFill>
                    </a:lnL>
                    <a:lnR w="5760">
                      <a:solidFill>
                        <a:srgbClr val="7a7a7a"/>
                      </a:solidFill>
                    </a:lnR>
                    <a:lnT w="5760">
                      <a:solidFill>
                        <a:srgbClr val="7a7a7a"/>
                      </a:solidFill>
                    </a:lnT>
                    <a:lnB w="5760">
                      <a:solidFill>
                        <a:srgbClr val="7a7a7a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: produce a written piece that goes through the writing proces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 given feedback through a rubric with clearly identified levels of profici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boratively sco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7a7a7a"/>
                      </a:solidFill>
                    </a:lnL>
                    <a:lnR w="5760">
                      <a:solidFill>
                        <a:srgbClr val="7a7a7a"/>
                      </a:solidFill>
                    </a:lnR>
                    <a:lnT w="5760">
                      <a:solidFill>
                        <a:srgbClr val="7a7a7a"/>
                      </a:solidFill>
                    </a:lnT>
                    <a:lnB w="5760">
                      <a:solidFill>
                        <a:srgbClr val="7a7a7a"/>
                      </a:solidFill>
                    </a:lnB>
                    <a:solidFill>
                      <a:srgbClr val="d7d7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02:02:19Z</dcterms:created>
  <dc:creator>Sean Eby</dc:creator>
  <dc:description/>
  <dc:language>en-US</dc:language>
  <cp:lastModifiedBy>L-Net</cp:lastModifiedBy>
  <dcterms:modified xsi:type="dcterms:W3CDTF">2012-02-29T17:47:49Z</dcterms:modified>
  <cp:revision>440</cp:revision>
  <dc:subject/>
  <dc:title>APPENDIX: Optional PE Instructional Cue Slides for Presenters</dc:title>
</cp:coreProperties>
</file>